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6BA-4999-44AD-8333-99C92BFA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980-F0D0-47A1-BA9F-4EB848CB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191-EBEA-4708-9CD8-4D503061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5176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7464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02852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65176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27464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D4E-8E3C-47D1-B90C-03963086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2C4FC-3DAB-44F5-BD0E-EA21009A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1C04B-CE02-43B1-A791-D46A6CBE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8E0F7-49DB-4DDF-BC52-E4B968A6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CF9D6-9C2B-4151-A515-172CD0F3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895C4-AAC7-47E2-B2F0-854004DE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10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1B3B8-184D-4459-B0DC-FE2AA5F6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295DD-1752-4FA5-8444-18513062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9DA-6F4F-43D8-96CF-3752B1BF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BD466-C8B7-4DA9-8F96-33F03592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83215-4E51-4E24-AF7F-E0027EB0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32FC2-35DE-4AB5-8462-79BECBA4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711E9-8CF4-4C8F-B43C-49731A0E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65176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274640" y="457164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2852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65176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274640" y="579240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0FE25-CC9C-49C1-8211-9DD346BF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1D8-1A59-4192-9805-B9914571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99C-DD42-48F8-9526-FF31A4CF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4FB-43D5-438B-87CD-B5F0CF14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10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1CF-82DC-4E91-9689-A828B3D7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34D-798E-49BC-B15F-491BFEE7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88400" y="579240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A28-A4E3-4C6B-A5CD-5C592C47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457164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79240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0AC-3185-4D22-89A4-2BBFBB6E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958C-3B81-420F-BD59-5B34B1379C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A6E9-19DC-4CE1-BBAC-AEFEF4E38D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7920" y="21960"/>
            <a:ext cx="5545440" cy="83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Comic Sans MS"/>
              </a:rPr>
              <a:t>LE MEURTRE DE LA FALA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omic Sans MS"/>
              </a:rPr>
              <a:t>Synop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Samedi 3 Juin 2006 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Cet après-midi avait lieu l’enregistrement de l’émission  TV « Une soirée pour l’Entre-Aide », en faveur des handicapés physiqu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 vrai carton !! Tous les records d’audimats vont être battu grâce à l’animateur vedette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Michel Delerme, 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et à la présence sur le plateau, de nombreux artistes dont le célèbre chanteur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Dany Gaccho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 et de sa femme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Mari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, qui  est en fauteuil roula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 grand cocktail est organisé à 18h, chez Dany et Marie, dans leur villa qui longe la cô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Alors que la fête bat son plein, Marie disparaît pendant quelques heu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Il commence à faire froid et il y a un vent terrib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ers 20h, Michel Delerme part à sa recherche… il revient épouvanté… il vient de retrouver le corps de Marie sans vie… son fauteuil a été poussé de la falai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A vous de jouer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Bonne mur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6:53:36Z</dcterms:created>
  <dc:creator>Mulder</dc:creator>
  <dc:description/>
  <dc:language>en-US</dc:language>
  <cp:lastModifiedBy>Mulder</cp:lastModifiedBy>
  <dcterms:modified xsi:type="dcterms:W3CDTF">2006-05-20T08:09:47Z</dcterms:modified>
  <cp:revision>3</cp:revision>
  <dc:subject/>
  <dc:title>Diapositive 1</dc:title>
</cp:coreProperties>
</file>