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830C-3539-4A9A-A608-2BA4C9C2B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C991-EAA6-4EE6-BBAC-EC70469D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1DCB-6F37-483D-A9E4-609D78CD8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03F2-4544-48AF-A731-F2A883DA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AA8D-4F6A-4A40-AF72-A5D24391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37F8-8A5E-4D27-95F5-A60A9DFC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357D-DA97-43A1-8F25-555AB051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AB07-CD3F-4992-B878-B139A223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6E29-C302-4C08-B2EF-CA233A2C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063E-6CB2-432C-B925-2AC353EB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C4B9-AF0D-4F84-9877-589E2E3C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BFDB-E2D3-4EC6-BB51-7D667DC7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5EE4-7445-430F-840C-20C73A5B6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53352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6858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2743200" y="6172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1722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048120" y="525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048120" y="29718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8564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3886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2971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29718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410080"/>
            <a:ext cx="7617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295280" y="38858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76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Rez de Chauss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403848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bliothè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Times New Roman"/>
              </a:rPr>
              <a:t>Pièce de je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1752480"/>
            <a:ext cx="2743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on, Salle à Ma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Times New Roman"/>
              </a:rPr>
              <a:t>Pièce de je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40384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i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48006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4724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5715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1371600"/>
            <a:ext cx="1676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 : Pla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 : Esca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 flipV="1">
            <a:off x="53352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6858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743200" y="6172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61722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886200" y="525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88620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28564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3886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3886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199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5410080"/>
            <a:ext cx="7617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5715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81680" y="1371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 : Esca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76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Premier E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3429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95480" y="685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685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88620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89512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4479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Marie-L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12952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25146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e de B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1295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Cordél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441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Pa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4800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eau de Pa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086600" y="1371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Esca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76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Deuxième E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3352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6858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743200" y="6172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1722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00600" y="3886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28564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5410080"/>
            <a:ext cx="7617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5715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3429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685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7080" y="685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1143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88620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89512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14479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Mari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12952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25146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e de B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1295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’am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45720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Ly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43434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ébar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41936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3886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4952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51814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e de bains des domest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44197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hambre de Marle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7520" y="13716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0T16:29:59Z</dcterms:created>
  <dc:creator>Pavilion Notebook User</dc:creator>
  <dc:description/>
  <dc:language>en-US</dc:language>
  <cp:lastModifiedBy>austin powers</cp:lastModifiedBy>
  <dcterms:modified xsi:type="dcterms:W3CDTF">2002-05-06T21:06:28Z</dcterms:modified>
  <cp:revision>8</cp:revision>
  <dc:subject/>
  <dc:title>Présentation PowerPoint</dc:title>
</cp:coreProperties>
</file>