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869F-371C-40F8-A7FD-C803FF9F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CAA-36AC-4DCD-AB3E-33C8E0DE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67D0-1498-4602-AB10-DE06FFEE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F188-9E52-4575-B4FE-DE26511C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D964-B675-4185-9DCB-4DB50DB8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011-E81C-4A86-B3F5-22E38AA2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CCDB-7EA0-43F6-92BA-089AD3F8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F571-D778-4F08-AFE1-80528334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B76-C279-448F-9AAF-A7946AE3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DB08-F9B9-4D48-BBAF-2C80F286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3EE8-2F77-44E7-97A9-ACF486FD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282A-3926-4EAF-829E-732E7B17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E824-0460-46CD-BDF7-EFCD7365F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H01691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2743200"/>
            <a:ext cx="3090600" cy="198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1800" y="3048120"/>
            <a:ext cx="259092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tt LO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étective Pri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Discrétion en 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tactez-moi au 06-57-35-54-78 ou au 01-43-13-70-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743200"/>
            <a:ext cx="3200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6:36:37Z</dcterms:created>
  <dc:creator>Pavilion Notebook User</dc:creator>
  <dc:description/>
  <dc:language>en-US</dc:language>
  <cp:lastModifiedBy>austin powers</cp:lastModifiedBy>
  <dcterms:modified xsi:type="dcterms:W3CDTF">2002-05-27T20:40:22Z</dcterms:modified>
  <cp:revision>4</cp:revision>
  <dc:subject/>
  <dc:title>Présentation PowerPoint</dc:title>
</cp:coreProperties>
</file>