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BE9-3CD0-4BC8-BE49-C2C00FC3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BC28-5D88-42B6-BB9A-E92EE100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67D-2359-46B5-8074-F499F648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26F-723D-4273-9874-EC1E6435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F01-CEA8-474C-81A6-C8007688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35A-C737-42B6-BEED-A5DFFA49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371-625F-41DC-8F75-DBE71C06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C02-F313-4957-B417-182D5686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64C-D7E9-4804-AA4F-6815E303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B2A-3235-477A-ADF4-0BCAB47F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30F-5679-4848-B8F5-D8F73A46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771-793E-41CC-9BC1-B21CEC7A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3D67-9C29-464C-AEAE-5F4C68759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cole d’Infirmière de la ville de Mas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828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’ét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3526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fin d’études de l’année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M00173_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56996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BD07834_" descr=""/>
          <p:cNvPicPr/>
          <p:nvPr/>
        </p:nvPicPr>
        <p:blipFill>
          <a:blip r:embed="rId3"/>
          <a:stretch/>
        </p:blipFill>
        <p:spPr>
          <a:xfrm>
            <a:off x="0" y="2590920"/>
            <a:ext cx="2104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05Z</dcterms:modified>
  <cp:revision>4</cp:revision>
  <dc:subject/>
  <dc:title>Présentation PowerPoint</dc:title>
</cp:coreProperties>
</file>