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F189-4925-4C22-B56B-1D251883D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28520" y="4571640"/>
            <a:ext cx="48006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028520" y="5792400"/>
            <a:ext cx="48006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0BFB-0318-474D-BF78-AC0167135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28520" y="457164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488400" y="457164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28520" y="579240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3488400" y="579240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324A-1557-4EBE-82A6-D04DE1B27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28520" y="457164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2651760" y="457164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274640" y="457164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028520" y="579240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2651760" y="579240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4274640" y="579240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AAF4-32AB-43AB-9029-54E910D7A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8FA7B9-A37F-47A7-90DF-EB59AF869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028520" y="457164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A2B3A3-5E5A-4AFF-8F03-68C83C170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457164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071F5E-7A3C-49D9-820A-7E928A21D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28520" y="4571640"/>
            <a:ext cx="234252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488400" y="4571640"/>
            <a:ext cx="234252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5CD33C-DB6E-4137-96FF-2C471FAE9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DBBAF5-F951-43D3-B0D0-9ED61DE03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42720" y="1930320"/>
            <a:ext cx="6172200" cy="107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01291A-E34F-4D61-AA51-69D511CE1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28520" y="457164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88400" y="4571640"/>
            <a:ext cx="234252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028520" y="579240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79F1DE-0DA2-4301-95FB-0E3B3B52A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028520" y="457164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670B-BF70-4122-BEBD-A57AF711D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4571640"/>
            <a:ext cx="234252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457164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488400" y="579240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03A650-1F49-4262-930C-252D0669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28520" y="457164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488400" y="457164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28520" y="5792400"/>
            <a:ext cx="48006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A0C096-B21A-47DA-84B8-8F07066C3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28520" y="4571640"/>
            <a:ext cx="48006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028520" y="5792400"/>
            <a:ext cx="48006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2DD4C0-3D2F-4746-8B28-C2E50D3A0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28520" y="457164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488400" y="457164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028520" y="579240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3488400" y="579240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753164-B95B-40B8-8F3B-6C44DD9A8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28520" y="457164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2651760" y="457164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274640" y="457164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028520" y="579240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2651760" y="579240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4274640" y="579240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E10B5C-ED51-44F1-9592-99BDA19E1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457164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47F7-8888-42A9-AB19-1EE7284CD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28520" y="4571640"/>
            <a:ext cx="234252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488400" y="4571640"/>
            <a:ext cx="234252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D4E2-4A77-49E1-8D33-8591D072A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2E50-2AFE-4F6B-8A63-36C34914A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342720" y="1930320"/>
            <a:ext cx="6172200" cy="107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01FC-CDBF-49E2-AE90-B2793AD6D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28520" y="457164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88400" y="4571640"/>
            <a:ext cx="234252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28520" y="579240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F854-D93A-4377-B577-4B853373D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28520" y="4571640"/>
            <a:ext cx="234252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88400" y="457164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488400" y="579240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D1C7-C84F-41E7-9DBC-5C718B17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457164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457164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792400"/>
            <a:ext cx="48006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1319-B41E-45FB-81E8-7CAFCE2D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6858000" cy="9143640"/>
            <a:chOff x="0" y="0"/>
            <a:chExt cx="6858000" cy="9143640"/>
          </a:xfrm>
        </p:grpSpPr>
        <p:sp>
          <p:nvSpPr>
            <p:cNvPr id="1" name=""/>
            <p:cNvSpPr/>
            <p:nvPr/>
          </p:nvSpPr>
          <p:spPr>
            <a:xfrm>
              <a:off x="0" y="6502320"/>
              <a:ext cx="6858000" cy="26413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6858000" cy="65023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4686480" y="8350200"/>
            <a:ext cx="2171520" cy="8128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8026560"/>
            <a:ext cx="5886360" cy="1142280"/>
            <a:chOff x="0" y="8026560"/>
            <a:chExt cx="5886360" cy="1142280"/>
          </a:xfrm>
        </p:grpSpPr>
        <p:sp>
          <p:nvSpPr>
            <p:cNvPr id="5" name=""/>
            <p:cNvSpPr/>
            <p:nvPr/>
          </p:nvSpPr>
          <p:spPr>
            <a:xfrm>
              <a:off x="1771560" y="8026560"/>
              <a:ext cx="3857400" cy="113400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2959920" y="8026560"/>
              <a:ext cx="2926440" cy="1142280"/>
              <a:chOff x="2959920" y="8026560"/>
              <a:chExt cx="2926440" cy="1142280"/>
            </a:xfrm>
          </p:grpSpPr>
          <p:sp>
            <p:nvSpPr>
              <p:cNvPr id="7" name=""/>
              <p:cNvSpPr/>
              <p:nvPr/>
            </p:nvSpPr>
            <p:spPr>
              <a:xfrm>
                <a:off x="4700520" y="8041320"/>
                <a:ext cx="1185840" cy="112752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187080" y="8026560"/>
                <a:ext cx="221400" cy="83556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607200" y="8240040"/>
                <a:ext cx="450000" cy="57312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4319280" y="8182800"/>
                <a:ext cx="184680" cy="15624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2959920" y="8168040"/>
                <a:ext cx="49680" cy="17100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8026560"/>
              <a:ext cx="4733640" cy="113220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469800" y="8028000"/>
            <a:ext cx="4263840" cy="1133280"/>
            <a:chOff x="469800" y="8028000"/>
            <a:chExt cx="4263840" cy="1133280"/>
          </a:xfrm>
        </p:grpSpPr>
        <p:sp>
          <p:nvSpPr>
            <p:cNvPr id="14" name=""/>
            <p:cNvSpPr/>
            <p:nvPr/>
          </p:nvSpPr>
          <p:spPr>
            <a:xfrm>
              <a:off x="1423440" y="8028000"/>
              <a:ext cx="434520" cy="61632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313000" y="8104320"/>
              <a:ext cx="2420640" cy="105696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78360" y="8091360"/>
              <a:ext cx="84240" cy="1292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017360" y="8131680"/>
              <a:ext cx="191520" cy="34740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39880" y="8157240"/>
              <a:ext cx="70200" cy="1292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469800" y="8065800"/>
              <a:ext cx="291600" cy="4384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342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4914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6B4B5-088F-4BF4-8550-72D052E73DF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4680" y="27000"/>
            <a:ext cx="6858000" cy="9143640"/>
            <a:chOff x="-4680" y="27000"/>
            <a:chExt cx="6858000" cy="9143640"/>
          </a:xfrm>
        </p:grpSpPr>
        <p:sp>
          <p:nvSpPr>
            <p:cNvPr id="62" name=""/>
            <p:cNvSpPr/>
            <p:nvPr/>
          </p:nvSpPr>
          <p:spPr>
            <a:xfrm>
              <a:off x="-4680" y="6529320"/>
              <a:ext cx="6858000" cy="26413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4680" y="27000"/>
              <a:ext cx="6858000" cy="65023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681440" y="8358120"/>
            <a:ext cx="2171880" cy="8128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8045280"/>
            <a:ext cx="5884200" cy="1134720"/>
            <a:chOff x="-1440" y="8045280"/>
            <a:chExt cx="5884200" cy="1134720"/>
          </a:xfrm>
        </p:grpSpPr>
        <p:sp>
          <p:nvSpPr>
            <p:cNvPr id="66" name=""/>
            <p:cNvSpPr/>
            <p:nvPr/>
          </p:nvSpPr>
          <p:spPr>
            <a:xfrm>
              <a:off x="1770120" y="8045280"/>
              <a:ext cx="3857760" cy="113472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958840" y="8045280"/>
              <a:ext cx="2923920" cy="1134360"/>
              <a:chOff x="2958840" y="8045280"/>
              <a:chExt cx="2923920" cy="1134360"/>
            </a:xfrm>
          </p:grpSpPr>
          <p:sp>
            <p:nvSpPr>
              <p:cNvPr id="68" name=""/>
              <p:cNvSpPr/>
              <p:nvPr/>
            </p:nvSpPr>
            <p:spPr>
              <a:xfrm>
                <a:off x="4699440" y="8060040"/>
                <a:ext cx="1183320" cy="111960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186000" y="8045280"/>
                <a:ext cx="221400" cy="83628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606120" y="8258760"/>
                <a:ext cx="450000" cy="57348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318200" y="8201520"/>
                <a:ext cx="184680" cy="15624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958840" y="8186760"/>
                <a:ext cx="49680" cy="17136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8045280"/>
              <a:ext cx="4734000" cy="113292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469800" y="8028000"/>
            <a:ext cx="4263840" cy="1133280"/>
            <a:chOff x="469800" y="8028000"/>
            <a:chExt cx="4263840" cy="1133280"/>
          </a:xfrm>
        </p:grpSpPr>
        <p:sp>
          <p:nvSpPr>
            <p:cNvPr id="75" name=""/>
            <p:cNvSpPr/>
            <p:nvPr/>
          </p:nvSpPr>
          <p:spPr>
            <a:xfrm>
              <a:off x="1423440" y="8028000"/>
              <a:ext cx="434520" cy="61632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313000" y="8104320"/>
              <a:ext cx="2420640" cy="105696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178360" y="8091360"/>
              <a:ext cx="84240" cy="1292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017360" y="8131680"/>
              <a:ext cx="191520" cy="34740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39880" y="8157240"/>
              <a:ext cx="70200" cy="1292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69800" y="8065800"/>
              <a:ext cx="291600" cy="4384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342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4914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03551-9750-4DD5-B383-C827DFBE785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907920" y="21960"/>
            <a:ext cx="5545440" cy="83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ffffff"/>
                </a:solidFill>
                <a:uFillTx/>
                <a:latin typeface="Comic Sans MS"/>
              </a:rPr>
              <a:t>LE MEURTRE DE LA FALAI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 u="sng">
                <a:solidFill>
                  <a:srgbClr val="ffffff"/>
                </a:solidFill>
                <a:uFillTx/>
                <a:latin typeface="Comic Sans MS"/>
              </a:rPr>
              <a:t>Synops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mic Sans MS"/>
              </a:rPr>
              <a:t>Samedi 3 Juin 2006 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Cet après-midi avait lieu l’enregistrement de l’émission  TV « Une soirée pour l’Entre-Aide », en faveur des handicapés physiqu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Un vrai carton !! Tous les records d’audimats vont être battu grâce à l’animateur vedette </a:t>
            </a:r>
            <a:r>
              <a:rPr b="1" lang="fr-FR" sz="1600" spc="-1" strike="noStrike">
                <a:solidFill>
                  <a:srgbClr val="ffffff"/>
                </a:solidFill>
                <a:latin typeface="Comic Sans MS"/>
              </a:rPr>
              <a:t>Michel Delerme, 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et à la présence sur le plateau, de nombreux artistes dont le célèbre chanteur </a:t>
            </a:r>
            <a:r>
              <a:rPr b="1" lang="fr-FR" sz="1600" spc="-1" strike="noStrike">
                <a:solidFill>
                  <a:srgbClr val="ffffff"/>
                </a:solidFill>
                <a:latin typeface="Comic Sans MS"/>
              </a:rPr>
              <a:t>Dany Gaccho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 et de sa femme </a:t>
            </a:r>
            <a:r>
              <a:rPr b="1" lang="fr-FR" sz="1600" spc="-1" strike="noStrike">
                <a:solidFill>
                  <a:srgbClr val="ffffff"/>
                </a:solidFill>
                <a:latin typeface="Comic Sans MS"/>
              </a:rPr>
              <a:t>Marie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, qui  est en fauteuil roulan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Un grand cocktail est organisé à 18h, chez Dany et Marie, dans leur villa qui longe la côt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Alors que la fête bat son plein, Marie disparaît pendant quelques heur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Il commence à faire froid et il y a un vent terribl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Vers 20h, Michel Delerme part à sa recherche… il revient épouvanté… il vient de retrouver le corps de Marie sans vie… son fauteuil a été poussé de la falais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A vous de jouer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Bonne murd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8T16:53:36Z</dcterms:created>
  <dc:creator>Mulder</dc:creator>
  <dc:description/>
  <dc:language>en-US</dc:language>
  <cp:lastModifiedBy>Mulder</cp:lastModifiedBy>
  <dcterms:modified xsi:type="dcterms:W3CDTF">2006-05-20T08:09:47Z</dcterms:modified>
  <cp:revision>3</cp:revision>
  <dc:subject/>
  <dc:title>Diapositive 1</dc:title>
</cp:coreProperties>
</file>